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275B9-56AA-43FB-87F5-44A817401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D0EA3-F344-441A-A994-CC14BAF69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1915D-7D79-418D-A6C9-44A6D8DFD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A8BA5-F46C-4ED2-8334-A508B4000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B3406-B9F7-4ED3-8DE6-97F0D0DB8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D0543-040C-4BE7-9C67-B588107DB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8B255-0E22-4596-986D-CB4B48DF1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CB68E-69C9-411A-B7CC-F8C6370B9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96113-95BB-414E-AD1E-030B3C9DB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D7975-1DE7-47A5-AAC4-C70887344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4160B-90C2-4B8F-B732-5BB1DD7EB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C0FB2-6FE1-4094-BB8C-DD0D4E09C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9A1C2-DF91-48DC-93E8-95E4439DC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5FFB3-AF23-447C-8F38-6522706AD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51468-6129-429A-B491-50ABB3D4A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87580-EBE6-438A-A68A-18725A583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FD469-2D5D-4FEE-B39D-AFAA4530C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B77DF-38AD-4908-856B-7A324FE45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745E3-F36D-486A-8433-D25DF5E95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3B618-5AAB-4EAF-A8DC-09B55C0F4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8E0BA-0E05-476F-B03B-B1D0C208F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E312D-8EA4-40C3-A2B3-1DB31040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42A5C-B987-4045-A5F5-D1BA2371C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AB87B-3ABF-43D8-B1D8-7DAE74229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95ED-5571-4BEB-8A99-4F85B8096E7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CBAA-2693-48DC-ADA6-735AE862531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907560"/>
            <a:ext cx="8229600" cy="453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a29e"/>
                </a:solidFill>
                <a:latin typeface="Comic Sans MS"/>
              </a:rPr>
              <a:t>INTRODUCCIÓN AL DERECHO DEL TRABAJO</a:t>
            </a:r>
            <a:endParaRPr b="0" lang="en-US" sz="6000" spc="-1" strike="noStrike">
              <a:solidFill>
                <a:srgbClr val="00a29e"/>
              </a:solidFill>
              <a:latin typeface="Arial"/>
            </a:endParaRPr>
          </a:p>
        </p:txBody>
      </p:sp>
      <p:sp>
        <p:nvSpPr>
          <p:cNvPr id="3" name="PlaceHolder 2"/>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333000"/>
            <a:ext cx="822960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29e"/>
                </a:solidFill>
                <a:latin typeface="Comic Sans MS"/>
              </a:rPr>
              <a:t>DERECHOS Y DEBERES DEL TRABAJADOR/A</a:t>
            </a:r>
            <a:endParaRPr b="0" lang="en-US" sz="20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o y libre elección de profes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bre sindicac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gociación Col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das de Conflicto Colectiv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elg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un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ticipación en la empres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cupación ef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moción y formación profesional</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ser discriminad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ar con seguridad e higiene</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peto a su intimidad y dignidad</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scanso y percepción puntual del salari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clamar los incumplimientos</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s derivadas del contrato</a:t>
            </a:r>
            <a:endParaRPr b="0" lang="en-US" sz="16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ar con diligencia y buena f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as medidas de seguridad e higie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as ordenes del empresario</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realizar competencia desleal a la empresa</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yudar a mejorar la productivida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o acordado en el contrato</a:t>
            </a:r>
            <a:r>
              <a:rPr b="0" lang="en-US" sz="1600" spc="-1" strike="noStrike">
                <a:solidFill>
                  <a:srgbClr val="000000"/>
                </a:solidFill>
                <a:latin typeface="Comic Sans MS"/>
              </a:rPr>
              <a:t> </a:t>
            </a:r>
            <a:endParaRPr b="0" lang="en-US" sz="1600" spc="-1" strike="noStrike">
              <a:solidFill>
                <a:srgbClr val="000000"/>
              </a:solidFill>
              <a:latin typeface="Tahoma"/>
            </a:endParaRPr>
          </a:p>
        </p:txBody>
      </p:sp>
      <p:sp>
        <p:nvSpPr>
          <p:cNvPr id="173" name=""/>
          <p:cNvSpPr/>
          <p:nvPr/>
        </p:nvSpPr>
        <p:spPr>
          <a:xfrm flipH="1">
            <a:off x="1618920" y="981000"/>
            <a:ext cx="108108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140360" y="981000"/>
            <a:ext cx="230328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1120" y="325080"/>
            <a:ext cx="76276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9e"/>
                </a:solidFill>
                <a:latin typeface="Comic Sans MS"/>
              </a:rPr>
              <a:t>INTRODUCCIÓN AL DERECHO DEL TRABAJO</a:t>
            </a:r>
            <a:endParaRPr b="0" lang="en-US" sz="2400" spc="-1" strike="noStrike">
              <a:solidFill>
                <a:srgbClr val="00a29e"/>
              </a:solidFill>
              <a:latin typeface="Arial"/>
            </a:endParaRPr>
          </a:p>
        </p:txBody>
      </p:sp>
      <p:sp>
        <p:nvSpPr>
          <p:cNvPr id="1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 Derecho</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arcelas del Derech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Ámbito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Fuentes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Jerarquía Normativa</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cipios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Derechos y Deberes del trabajodor/a</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29e"/>
                </a:solidFill>
                <a:latin typeface="Comic Sans MS"/>
              </a:rPr>
              <a:t>Concepto de Derecho</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junto de normas, reglas y principios regulan las relaciones sociales que la convivencia humana han hecho necesaria en cada momento histórico</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29e"/>
                </a:solidFill>
                <a:latin typeface="Comic Sans MS"/>
              </a:rPr>
              <a:t>Parcelas del Derecho</a:t>
            </a:r>
            <a:endParaRPr b="0" lang="en-US" sz="2800" spc="-1" strike="noStrike">
              <a:solidFill>
                <a:srgbClr val="00a29e"/>
              </a:solidFill>
              <a:latin typeface="Arial"/>
            </a:endParaRPr>
          </a:p>
        </p:txBody>
      </p:sp>
      <p:sp>
        <p:nvSpPr>
          <p:cNvPr id="157"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ÚBLICO</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stitucio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ministrativ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sc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ces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nacional Público</a:t>
            </a:r>
            <a:endParaRPr b="0" lang="en-US" sz="2000" spc="-1" strike="noStrike">
              <a:solidFill>
                <a:srgbClr val="000000"/>
              </a:solidFill>
              <a:latin typeface="Tahoma"/>
            </a:endParaRPr>
          </a:p>
        </p:txBody>
      </p:sp>
      <p:sp>
        <p:nvSpPr>
          <p:cNvPr id="158" name="PlaceHolder 3"/>
          <p:cNvSpPr>
            <a:spLocks noGrp="1"/>
          </p:cNvSpPr>
          <p:nvPr>
            <p:ph/>
          </p:nvPr>
        </p:nvSpPr>
        <p:spPr>
          <a:xfrm>
            <a:off x="4651200" y="1599840"/>
            <a:ext cx="4035600" cy="45306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rcant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v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boral o del Trabaj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ternacional 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1120" y="463680"/>
            <a:ext cx="7627680" cy="744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a29e"/>
                </a:solidFill>
                <a:latin typeface="Comic Sans MS"/>
              </a:rPr>
              <a:t>Concepto del Derecho del Trabajo</a:t>
            </a:r>
            <a:br>
              <a:rPr sz="2800"/>
            </a:br>
            <a:endParaRPr b="0" lang="en-US" sz="3600" spc="-1" strike="noStrike">
              <a:solidFill>
                <a:srgbClr val="00a29e"/>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 la parte del ordenamiento jurídico que regula las relaciones laborales nacidas por la prestación de un trabajo voluntario, retribuido, por cuenta ajena y subordinado al poder de otra persona física o jurídica, llamada empresario/a o empleador/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29e"/>
                </a:solidFill>
                <a:latin typeface="Comic Sans MS"/>
              </a:rPr>
              <a:t>Ámbito de aplicación del Derecho del Trabajo</a:t>
            </a:r>
            <a:endParaRPr b="0" lang="en-US" sz="3200" spc="-1" strike="noStrike">
              <a:solidFill>
                <a:srgbClr val="00a29e"/>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incluyen los Trabajos que cumplan las 5 condiciones:</a:t>
            </a:r>
            <a:endParaRPr b="0" lang="en-US" sz="20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SONAL</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BRE Y VOLUNTARI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MUNERAD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UENTA AJENA</a:t>
            </a:r>
            <a:endParaRPr b="0" lang="en-US" sz="2000" spc="-1" strike="noStrike">
              <a:solidFill>
                <a:srgbClr val="000000"/>
              </a:solidFill>
              <a:latin typeface="Tahoma"/>
            </a:endParaRPr>
          </a:p>
          <a:p>
            <a:pPr lvl="2" marL="225252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MEN DEPENDENCI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30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29e"/>
                </a:solidFill>
                <a:latin typeface="Comic Sans MS"/>
              </a:rPr>
              <a:t>FUENTES DEL DERECHO DEL TRABAJO</a:t>
            </a:r>
            <a:endParaRPr b="0" lang="en-US" sz="2000" spc="-1" strike="noStrike">
              <a:solidFill>
                <a:srgbClr val="00a29e"/>
              </a:solidFill>
              <a:latin typeface="Arial"/>
            </a:endParaRPr>
          </a:p>
        </p:txBody>
      </p:sp>
      <p:sp>
        <p:nvSpPr>
          <p:cNvPr id="164" name="PlaceHolder 2"/>
          <p:cNvSpPr>
            <a:spLocks noGrp="1"/>
          </p:cNvSpPr>
          <p:nvPr>
            <p:ph/>
          </p:nvPr>
        </p:nvSpPr>
        <p:spPr>
          <a:xfrm>
            <a:off x="684000" y="1052640"/>
            <a:ext cx="3811320" cy="42494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A</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glamentos y Directivas</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stitución</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nios y/o Recomendaciones</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y Orgánica</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y Ordinaria</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creto-ley</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l Decreto Legislativ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l Decreto </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den Ministerial</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ni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at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o y costumbre</a:t>
            </a:r>
            <a:endParaRPr b="0" lang="en-US" sz="1400" spc="-1" strike="noStrike">
              <a:solidFill>
                <a:srgbClr val="000000"/>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5" name="PlaceHolder 3"/>
          <p:cNvSpPr>
            <a:spLocks noGrp="1"/>
          </p:cNvSpPr>
          <p:nvPr>
            <p:ph/>
          </p:nvPr>
        </p:nvSpPr>
        <p:spPr>
          <a:xfrm>
            <a:off x="4427280" y="1125360"/>
            <a:ext cx="380988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UPO DE PODER</a:t>
            </a:r>
            <a:endParaRPr b="0" lang="en-US" sz="28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ión Europea</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ueblo </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ción Internacional del Trabajo (OIT)</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lamento Mayoría Absoluta (Legislativ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lamento Mayoría Simple (Legislativ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obierno (Ejecutiv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sejo de Ministros</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inistros</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mpresa y Trabajadores/as</a:t>
            </a:r>
            <a:endParaRPr b="0" lang="en-US" sz="1400" spc="-1" strike="noStrike">
              <a:solidFill>
                <a:srgbClr val="000000"/>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29e"/>
                </a:solidFill>
                <a:latin typeface="Comic Sans MS"/>
              </a:rPr>
              <a:t>JERARQUÍA NORMATIVA</a:t>
            </a:r>
            <a:endParaRPr b="0" lang="en-US" sz="2400" spc="-1" strike="noStrike">
              <a:solidFill>
                <a:srgbClr val="00a29e"/>
              </a:solidFill>
              <a:latin typeface="Arial"/>
            </a:endParaRPr>
          </a:p>
        </p:txBody>
      </p:sp>
      <p:sp>
        <p:nvSpPr>
          <p:cNvPr id="167"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lamentos y Directiva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itución</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nios y/o Recomendacione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y Orgánic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y Ordinari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to-ley</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Decreto Legislativ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Decreto </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en Ministerial</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ni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at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y costumbre</a:t>
            </a:r>
            <a:endParaRPr b="0" lang="en-US" sz="2400" spc="-1" strike="noStrike">
              <a:solidFill>
                <a:srgbClr val="000000"/>
              </a:solidFill>
              <a:latin typeface="Tahoma"/>
            </a:endParaRPr>
          </a:p>
          <a:p>
            <a:pPr marL="15238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9e"/>
                </a:solidFill>
                <a:latin typeface="Comic Sans MS"/>
              </a:rPr>
              <a:t>Principios de Aplicación del Derecho del Trabajo</a:t>
            </a:r>
            <a:endParaRPr b="0" lang="en-US" sz="2400" spc="-1" strike="noStrike">
              <a:solidFill>
                <a:srgbClr val="00a29e"/>
              </a:solidFill>
              <a:latin typeface="Arial"/>
            </a:endParaRPr>
          </a:p>
        </p:txBody>
      </p:sp>
      <p:graphicFrame>
        <p:nvGraphicFramePr>
          <p:cNvPr id="169" name=""/>
          <p:cNvGraphicFramePr/>
          <p:nvPr/>
        </p:nvGraphicFramePr>
        <p:xfrm>
          <a:off x="457200" y="1600200"/>
          <a:ext cx="8229600" cy="4848120"/>
        </p:xfrm>
        <a:graphic>
          <a:graphicData uri="http://schemas.openxmlformats.org/drawingml/2006/table">
            <a:tbl>
              <a:tblPr/>
              <a:tblGrid>
                <a:gridCol w="4114800"/>
                <a:gridCol w="4114800"/>
              </a:tblGrid>
              <a:tr h="2670120">
                <a:tc>
                  <a:txBody>
                    <a:bodyPr lIns="90000" rIns="90000" tIns="46800" bIns="46800" anchor="t">
                      <a:noAutofit/>
                    </a:bodyPr>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NORMA MÁS FAVORABLE</a:t>
                      </a:r>
                      <a:endParaRPr b="0" lang="en-US" sz="1400" spc="-1" strike="noStrike">
                        <a:solidFill>
                          <a:srgbClr val="000000"/>
                        </a:solidFill>
                        <a:latin typeface="Times New Roman"/>
                      </a:endParaRPr>
                    </a:p>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 caso de que existan dos o más normas en vigor y se discuta cual debe aplicarse con preferencia, se debe elegir la que sea más favorable para el trabajador, aunque sea una norma de rango inferior. La norma más favorable se debe entender en su conjunto, no sólo en aspectos concretos, y en su cómputo anual si se trata de conceptos que se puedan cuantificar (días de trabajo, días de vacaciones, dinero...)</a:t>
                      </a:r>
                      <a:endParaRPr b="0" lang="en-US" sz="1200" spc="-1" strike="noStrike">
                        <a:solidFill>
                          <a:srgbClr val="000000"/>
                        </a:solidFill>
                        <a:latin typeface="Times New Roman"/>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CONDICIÓN MÁS BENEFICIOS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ste principio consiste en mantener los beneficios que uno o varios trabajadores hayan podido conseguir a través del contrato de trabajo, aunque después de apruebe una norma que se aplique a todos los trabajadores y que establezca condiciones menos favorables que las que están disfrutando individualmen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78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PRO OPERARIO”</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ando existen dos o más interpretaciones posibles de una norma y se tenga duda sobre cual es la correcta, se debe interpretar “a favor del trabajado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IRRENUNCIABILIDAD DE DERECHOS</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s trabajadores no pueden renunciar a los derechos laborales que le reconozcan las leyes, los convenios colectivos o cualquier otra norma. Por ejemplo si un trabajador renuncia a sus días de vacaciones, esta renuncia carece de validez, por lo que en cualquier momento puede reclamar sus días de descans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5:55:45Z</dcterms:created>
  <dc:creator>Alejandro</dc:creator>
  <dc:description/>
  <dc:language>en-US</dc:language>
  <cp:lastModifiedBy>Biblioteca</cp:lastModifiedBy>
  <dcterms:modified xsi:type="dcterms:W3CDTF">2006-10-17T11:18:38Z</dcterms:modified>
  <cp:revision>8</cp:revision>
  <dc:subject/>
  <dc:title>INTRODUCCIÓN AL DERECHO DEL TRABAJO</dc:title>
</cp:coreProperties>
</file>